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CC3-5BDD-4974-A001-DA909A90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E75-3CAF-4C09-BAFA-686EA8D1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06F-E617-4EBA-BEB0-FB76CD6E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693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25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7652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693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25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40B-4EBF-4DCF-972A-3C771DCC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271080"/>
            <a:ext cx="6781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F10-F2DD-42D9-8311-6A5E4FCA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93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25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7652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693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25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E4A-6347-4E65-98C1-1FA98BC8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4A4-AA8A-4E6B-957A-7FB32071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937-C247-48E5-92FA-F2822AB4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271080"/>
            <a:ext cx="6781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A98-3C53-441A-B4C2-BC6FE08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C4D-8FB2-4E06-B6C2-723FDA58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1EC-95D1-402D-8A85-D4009B07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D54-C5C7-453C-A90D-2F6D98B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1" marL="5760" indent="-4320">
              <a:spcBef>
                <a:spcPts val="3251"/>
              </a:spcBef>
              <a:buClr>
                <a:srgbClr val="000000"/>
              </a:buClr>
              <a:buFont typeface="Kepler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2" marL="217440" indent="-210240">
              <a:spcBef>
                <a:spcPts val="3251"/>
              </a:spcBef>
              <a:buClr>
                <a:srgbClr val="000000"/>
              </a:buClr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3" marL="42912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4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5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6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utiger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Bold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utiger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Bold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440"/>
            <a:ext cx="1233360" cy="685656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33160" y="640044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Frutiger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BDD2-7C4B-43EC-9E87-D6AEF2DE1568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440"/>
            <a:ext cx="7807320" cy="502776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2520"/>
            <a:ext cx="5754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FrutigerBold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Frutiger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4571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utiger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utigerBold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5"/>
          </p:nvPr>
        </p:nvSpPr>
        <p:spPr>
          <a:xfrm>
            <a:off x="1676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utiger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eplerRegular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  <a:p>
            <a:pPr lvl="1" marL="1440" indent="0" algn="ct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eplerRegular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  <a:p>
            <a:pPr lvl="2" marL="7920" algn="ctr">
              <a:spcBef>
                <a:spcPts val="1199"/>
              </a:spcBef>
              <a:buClr>
                <a:srgbClr val="000000"/>
              </a:buClr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eplerRegula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  <a:p>
            <a:pPr lvl="3" marL="237960" algn="ctr">
              <a:spcBef>
                <a:spcPts val="550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epler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KeplerRegular"/>
            </a:endParaRPr>
          </a:p>
          <a:p>
            <a:pPr lvl="4" marL="468360" algn="ctr">
              <a:spcBef>
                <a:spcPts val="275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epler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KeplerRegular"/>
            </a:endParaRPr>
          </a:p>
          <a:p>
            <a:pPr lvl="5" marL="468360">
              <a:spcBef>
                <a:spcPts val="550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epler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KeplerRegular"/>
            </a:endParaRPr>
          </a:p>
          <a:p>
            <a:pPr lvl="6" marL="468360">
              <a:spcBef>
                <a:spcPts val="550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epler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Kepler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2520"/>
            <a:ext cx="5754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FrutigerBold"/>
              </a:rPr>
              <a:t>Introduction to the Industrial Revolution</a:t>
            </a:r>
            <a:endParaRPr b="0" lang="en-US" sz="3000" spc="-1" strike="noStrike">
              <a:solidFill>
                <a:srgbClr val="ffffff"/>
              </a:solidFill>
              <a:latin typeface="Frutiger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219320"/>
            <a:ext cx="5754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eplerRegular"/>
              </a:rPr>
              <a:t>McIntyre</a:t>
            </a:r>
            <a:endParaRPr b="0" lang="en-US" sz="2800" spc="-1" strike="noStrike">
              <a:solidFill>
                <a:srgbClr val="ffffff"/>
              </a:solidFill>
              <a:latin typeface="KeplerRegular"/>
            </a:endParaRPr>
          </a:p>
        </p:txBody>
      </p:sp>
      <p:pic>
        <p:nvPicPr>
          <p:cNvPr id="85" name="TranscontinentalRR" descr=""/>
          <p:cNvPicPr/>
          <p:nvPr/>
        </p:nvPicPr>
        <p:blipFill>
          <a:blip r:embed="rId1"/>
          <a:stretch/>
        </p:blipFill>
        <p:spPr>
          <a:xfrm>
            <a:off x="3200400" y="1774800"/>
            <a:ext cx="5029200" cy="396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6720" y="5791320"/>
            <a:ext cx="48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eplerRegular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eplerRegular"/>
              </a:rPr>
              <a:t>Workers Celebration Completion of the Transcontinental Railroad”</a:t>
            </a:r>
            <a:endParaRPr b="0" lang="en-US" sz="1200" spc="-1" strike="noStrike">
              <a:solidFill>
                <a:srgbClr val="000000"/>
              </a:solidFill>
              <a:latin typeface="Kepler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eplerRegular"/>
              </a:rPr>
              <a:t>Railroad workers gather in Promontory, Utah, to celebrate the completion of the first Transcontinental Railroad on May 10, 1869</a:t>
            </a:r>
            <a:endParaRPr b="0" lang="en-US" sz="1200" spc="-1" strike="noStrike">
              <a:solidFill>
                <a:srgbClr val="000000"/>
              </a:solidFill>
              <a:latin typeface="Kepler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91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876920"/>
            <a:ext cx="5105520" cy="459720"/>
          </a:xfrm>
          <a:prstGeom prst="rect">
            <a:avLst/>
          </a:prstGeom>
          <a:solidFill>
            <a:srgbClr val="abc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ival of the Fittest”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5638680"/>
            <a:ext cx="5105520" cy="1191240"/>
          </a:xfrm>
          <a:prstGeom prst="rect">
            <a:avLst/>
          </a:prstGeom>
          <a:solidFill>
            <a:srgbClr val="abc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ch have more money because they run better business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1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3048120"/>
            <a:ext cx="2895480" cy="3682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Innovations &amp; Invention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2514600"/>
            <a:ext cx="2666880" cy="36828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Business Practice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1600200"/>
            <a:ext cx="1905120" cy="642600"/>
          </a:xfrm>
          <a:prstGeom prst="rect">
            <a:avLst/>
          </a:prstGeom>
          <a:solidFill>
            <a:srgbClr val="abc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Social Darwinism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206" name="billgates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2841480" cy="43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3B7-AC74-4C84-A629-52C483C6B6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210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4876920"/>
            <a:ext cx="5105520" cy="459720"/>
          </a:xfrm>
          <a:prstGeom prst="rect">
            <a:avLst/>
          </a:prstGeom>
          <a:solidFill>
            <a:srgbClr val="a2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issez-Faire “Hands Off!”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638680"/>
            <a:ext cx="5105520" cy="825480"/>
          </a:xfrm>
          <a:prstGeom prst="rect">
            <a:avLst/>
          </a:prstGeom>
          <a:solidFill>
            <a:srgbClr val="a2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vernment did not interfere with the economy and business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3048120"/>
            <a:ext cx="2895480" cy="3682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Innovations &amp; Invention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2514600"/>
            <a:ext cx="2666880" cy="36828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Business Practice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1600200"/>
            <a:ext cx="1905120" cy="642600"/>
          </a:xfrm>
          <a:prstGeom prst="rect">
            <a:avLst/>
          </a:prstGeom>
          <a:solidFill>
            <a:srgbClr val="abc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Social Darwinism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380880"/>
            <a:ext cx="1828800" cy="642600"/>
          </a:xfrm>
          <a:prstGeom prst="rect">
            <a:avLst/>
          </a:prstGeom>
          <a:solidFill>
            <a:srgbClr val="a2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Government Laissez -Faire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226" name="handsoff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345924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946-BBF9-4E03-A2CA-86C7BFC240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Thinking Slide: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you think we could use more “Laissez faire” economic policies today?  Explain.</a:t>
            </a:r>
            <a:endParaRPr b="0" lang="en-US" sz="40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64F-2779-4C77-8A59-BED532A11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The Industrial Revolution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at?  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182880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eplerRegular"/>
              </a:rPr>
              <a:t>Major change in the economy caused by the shift to industry with labor-saving machine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048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en?  </a:t>
            </a:r>
            <a:endParaRPr b="0" lang="en-US" sz="26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6576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eplerRegular"/>
              </a:rPr>
              <a:t>Really got going in America after the Civil War (1860s +)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279-8597-4A31-86F6-EA7B23EE19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The Industrial Revolution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3657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took off after  the Civil War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41911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1840 US had 3,000 miles of track and by 1860 30,000</a:t>
            </a:r>
            <a:endParaRPr b="0" lang="en-US" sz="20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52578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ed many business practices that made the Industrial Revolution possible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97" name="Replicasteam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0477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99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C35-09BF-4271-8BD6-49C2AEE95B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505320"/>
            <a:ext cx="495288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deral government gives western land free to railroads to encourage businesses &amp; settlement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5257800"/>
            <a:ext cx="502920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ilroads took farmers out to their land, carried their crops to market, &amp; brought them manufactured good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10" name="homesteadfarmers" descr=""/>
          <p:cNvPicPr/>
          <p:nvPr/>
        </p:nvPicPr>
        <p:blipFill>
          <a:blip r:embed="rId1"/>
          <a:srcRect l="35703" t="7500" r="0" b="0"/>
          <a:stretch/>
        </p:blipFill>
        <p:spPr>
          <a:xfrm>
            <a:off x="380880" y="2057400"/>
            <a:ext cx="3426120" cy="39117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12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19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384-A0AF-46ED-9B5A-08B9C13516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23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505320"/>
            <a:ext cx="5105520" cy="119124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ilroad companies advertise in Europe to attract immigrants to new land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5257800"/>
            <a:ext cx="5105520" cy="119124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mmigrants settle in cities, joining the urban industrial workforce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34" name="Immigrants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35320" cy="464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D30-07FD-48E7-A880-4F94F10EA3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38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505320"/>
            <a:ext cx="5105520" cy="15570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ilroads made cities possible, providing them with the food they needed, raw materials, and new market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5257800"/>
            <a:ext cx="5105520" cy="82548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1st time, more people have non-farming than farming job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50" name="city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3370320" cy="426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067-4AFE-4C17-B8D9-178E57D56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Thinking Slide: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1371600"/>
            <a:ext cx="594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cause do you think is most important so far? Explain.</a:t>
            </a:r>
            <a:endParaRPr b="0" lang="en-US" sz="4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AAA-84C0-43AC-9319-CAB0C35763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56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733920"/>
            <a:ext cx="5105520" cy="8254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el rails – safer and cheaper than iron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5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048120"/>
            <a:ext cx="2895480" cy="3682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Innovations &amp; Invention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68" name="Lightbulb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857320" cy="4497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24280" y="464832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 examples: Cash register, typewriter, refrigerator car, Telephone, Lightbulb, Phonograph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1C8-DAC2-46B8-A1D9-A276FEFEF7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Why?  Eight reason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791320" y="609480"/>
            <a:ext cx="2742840" cy="2371680"/>
            <a:chOff x="5791320" y="609480"/>
            <a:chExt cx="2742840" cy="2371680"/>
          </a:xfrm>
        </p:grpSpPr>
        <p:sp>
          <p:nvSpPr>
            <p:cNvPr id="173" name=""/>
            <p:cNvSpPr/>
            <p:nvPr/>
          </p:nvSpPr>
          <p:spPr>
            <a:xfrm>
              <a:off x="7162920" y="609480"/>
              <a:ext cx="0" cy="23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1320" y="1733400"/>
              <a:ext cx="27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248520" y="734400"/>
              <a:ext cx="182880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48520" y="860040"/>
              <a:ext cx="19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62280" y="983880"/>
              <a:ext cx="1600920" cy="162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6400" y="1358640"/>
              <a:ext cx="137304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dustrial Revolution Wheel</a:t>
              </a:r>
              <a:endParaRPr b="0" lang="en-US" sz="1800" spc="-1" strike="noStrike">
                <a:solidFill>
                  <a:srgbClr val="000000"/>
                </a:solidFill>
                <a:latin typeface="KeplerRegular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477120" y="2286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eplerRegular"/>
              </a:rPr>
              <a:t>Railroa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733920"/>
            <a:ext cx="5105520" cy="119124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ol” – agreement to divide the business in a given area and share the profits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5257800"/>
            <a:ext cx="5105520" cy="119124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there is $ there is corruption and railroads introduced much of bo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33520"/>
            <a:ext cx="1447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Land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1523880"/>
            <a:ext cx="990720" cy="91692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KeplerRegular"/>
              </a:rPr>
              <a:t>Immi-gr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2590920"/>
            <a:ext cx="1447920" cy="642600"/>
          </a:xfrm>
          <a:prstGeom prst="rect">
            <a:avLst/>
          </a:prstGeom>
          <a:solidFill>
            <a:srgbClr val="c41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3048120"/>
            <a:ext cx="2895480" cy="368280"/>
          </a:xfrm>
          <a:prstGeom prst="rect">
            <a:avLst/>
          </a:prstGeom>
          <a:solidFill>
            <a:srgbClr val="6709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Innovations &amp; Invention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14600"/>
            <a:ext cx="2666880" cy="368280"/>
          </a:xfrm>
          <a:prstGeom prst="rect">
            <a:avLst/>
          </a:prstGeom>
          <a:solidFill>
            <a:srgbClr val="f9a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eplerRegular"/>
              </a:rPr>
              <a:t>New Business Practices</a:t>
            </a:r>
            <a:endParaRPr b="0" lang="en-US" sz="1800" spc="-1" strike="noStrike">
              <a:solidFill>
                <a:srgbClr val="000000"/>
              </a:solidFill>
              <a:latin typeface="KeplerRegular"/>
            </a:endParaRPr>
          </a:p>
        </p:txBody>
      </p:sp>
      <p:pic>
        <p:nvPicPr>
          <p:cNvPr id="187" name="Trusts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029040" cy="45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33D-1E34-4631-942D-2E3938D9A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7:15:57Z</dcterms:created>
  <dc:creator>Steffanie Haase</dc:creator>
  <dc:description/>
  <dc:language>en-US</dc:language>
  <cp:lastModifiedBy>ME</cp:lastModifiedBy>
  <cp:lastPrinted>2002-10-01T15:28:09Z</cp:lastPrinted>
  <dcterms:modified xsi:type="dcterms:W3CDTF">2006-03-03T03:00:42Z</dcterms:modified>
  <cp:revision>115</cp:revision>
  <dc:subject/>
  <dc:title>PowerPoint Presentation</dc:title>
</cp:coreProperties>
</file>